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54D4-07CC-4241-997C-962F9B2BD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F80E-C1D8-4027-BE28-33D78A6B4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52D9-058F-45AF-B3C1-904D9929A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548B-92D4-450A-A84D-9F644DB29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04CD-AEBA-4A80-A21F-F27A7443C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B71D-7949-43D7-A6BC-DA01C25BF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11D3-05A0-461B-8A43-FE1A6BBB9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1D33-1A29-4B73-B249-748833378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E756-D842-4BC4-A297-CF0ABC37A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6E13-EB93-47C6-8BE8-E6EFCF5D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19B7-AE54-4B65-A54C-CDD1B56BA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7C23-6632-4050-A15C-EE635A88F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62FB5-2938-4BF3-B6C8-96C4D2C420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3505320"/>
            <a:ext cx="81532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Calibri"/>
                <a:cs typeface="Angsana New"/>
              </a:rPr>
              <a:t>การพัฒนาหลักสูตรและการจัดกระบวนการเรียนการสอ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1523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7200" spc="-1" strike="noStrike">
                <a:solidFill>
                  <a:srgbClr val="3333cc"/>
                </a:solidFill>
                <a:latin typeface="Calibri"/>
                <a:cs typeface="Cordia New"/>
              </a:rPr>
              <a:t>กลุ่มที่ </a:t>
            </a:r>
            <a:r>
              <a:rPr b="1" lang="en-US" sz="7200" spc="-1" strike="noStrike">
                <a:solidFill>
                  <a:srgbClr val="3333cc"/>
                </a:solidFill>
                <a:latin typeface="Calibri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295280" y="1522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3333cc"/>
                </a:solidFill>
                <a:latin typeface="Calibri"/>
                <a:cs typeface="Cordia New"/>
              </a:rPr>
              <a:t>สมาชิกกลุ่มที่ </a:t>
            </a:r>
            <a:r>
              <a:rPr b="1" lang="en-US" sz="3200" spc="-1" strike="noStrike">
                <a:solidFill>
                  <a:srgbClr val="3333cc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838080" y="762120"/>
          <a:ext cx="7772400" cy="5559480"/>
        </p:xfrm>
        <a:graphic>
          <a:graphicData uri="http://schemas.openxmlformats.org/drawingml/2006/table">
            <a:tbl>
              <a:tblPr/>
              <a:tblGrid>
                <a:gridCol w="644760"/>
                <a:gridCol w="2409840"/>
                <a:gridCol w="2341440"/>
                <a:gridCol w="2376360"/>
              </a:tblGrid>
              <a:tr h="28008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ที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ชื่อ</a:t>
                      </a:r>
                      <a:r>
                        <a:rPr b="1" lang="th-TH" sz="1600" spc="-1" strike="noStrike">
                          <a:solidFill>
                            <a:srgbClr val="000000"/>
                          </a:solidFill>
                          <a:latin typeface="Browallia New"/>
                          <a:ea typeface="Angsana New"/>
                        </a:rPr>
                        <a:t>-</a:t>
                      </a:r>
                      <a:r>
                        <a:rPr b="1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สกุ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ตำแหน่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สังกัด หน่วยงา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28008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รศ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ea typeface="Angsana New"/>
                        </a:rPr>
                        <a:t>.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ศรีสนิท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Cordia New"/>
                        </a:rPr>
                        <a:t>  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Angsana New"/>
                          <a:cs typeface="Cordia New"/>
                        </a:rPr>
                        <a:t>อินทรมณ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มหาวิทยาลัยมหิด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52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รศ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ea typeface="Angsana New"/>
                        </a:rPr>
                        <a:t>.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พิเชฏฐ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Cordia New"/>
                        </a:rPr>
                        <a:t>  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Angsana New"/>
                          <a:cs typeface="Cordia New"/>
                        </a:rPr>
                        <a:t>กาลามเกษตร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รองคณบดีฝ่ายการศึกษา</a:t>
                      </a:r>
                      <a:br>
                        <a:rPr sz="1600"/>
                      </a:b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Angsana New"/>
                          <a:cs typeface="Cordia New"/>
                        </a:rPr>
                        <a:t>คณะมนุษยศาสตร์และสังคมศาสตร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มหาวิทยาลัยมหิด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อาจารย์กฤตยา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Cordia New"/>
                        </a:rPr>
                        <a:t>  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Angsana New"/>
                          <a:cs typeface="Cordia New"/>
                        </a:rPr>
                        <a:t>อกนิษฐ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มหาวิทยาลัยมหิด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80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อาจารย์เอกนรินทร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Cordia New"/>
                        </a:rPr>
                        <a:t>  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Angsana New"/>
                          <a:cs typeface="Cordia New"/>
                        </a:rPr>
                        <a:t>เอกอริยะศิร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ผู้ช่วยอธิการบดีฝ่ายวิชาการ</a:t>
                      </a:r>
                      <a:br>
                        <a:rPr sz="1600"/>
                      </a:b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Angsana New"/>
                          <a:cs typeface="Cordia New"/>
                        </a:rPr>
                        <a:t>วิทยาเขตปัตตาน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มหาวิทยาลัยสงขลานครินทร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นางวิภาพรรณ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Cordia New"/>
                        </a:rPr>
                        <a:t>  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Angsana New"/>
                          <a:cs typeface="Cordia New"/>
                        </a:rPr>
                        <a:t>อินนุรักษ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Cordia New"/>
                        </a:rPr>
                        <a:t>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นักวิชาการอุดมศึกษ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มหาวิทยาลัยสงขลานครินทร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80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รศ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ea typeface="Angsana New"/>
                        </a:rPr>
                        <a:t>.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เพ็ญศิร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Cordia New"/>
                        </a:rPr>
                        <a:t>  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Angsana New"/>
                          <a:cs typeface="Cordia New"/>
                        </a:rPr>
                        <a:t>นภีรงค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รองคณบดีฝ่ายวิชาการ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Cordia New"/>
                        </a:rPr>
                        <a:t> </a:t>
                      </a:r>
                      <a:br>
                        <a:rPr sz="1600"/>
                      </a:b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Angsana New"/>
                          <a:cs typeface="Cordia New"/>
                        </a:rPr>
                        <a:t>บัณฑิตวิทยาลั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มหาวิทยาลัยนเรศว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นางเจริญใ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Cordia New"/>
                        </a:rPr>
                        <a:t>  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Angsana New"/>
                          <a:cs typeface="Cordia New"/>
                        </a:rPr>
                        <a:t>กุลดิล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มหาวิทยาลัยมหาสารคา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80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ผศ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ea typeface="Angsana New"/>
                        </a:rPr>
                        <a:t>.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ดร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ea typeface="Angsana New"/>
                        </a:rPr>
                        <a:t>.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ผดุงศักดิ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Cordia New"/>
                        </a:rPr>
                        <a:t>  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Angsana New"/>
                          <a:cs typeface="Cordia New"/>
                        </a:rPr>
                        <a:t>สุขสอา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ผู้อำนวยการโครงการสหกิจศึกษาและพัฒนาอาชีพ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มหาวิทยาลัยวลัยลักษณ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ดร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ea typeface="Angsana New"/>
                        </a:rPr>
                        <a:t>.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พัชร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Cordia New"/>
                        </a:rPr>
                        <a:t>  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Angsana New"/>
                          <a:cs typeface="Cordia New"/>
                        </a:rPr>
                        <a:t>ประเศรษฐสุ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มหาวิทยาลัยวลัยลักษณ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อาจารย์ธนรั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Cordia New"/>
                        </a:rPr>
                        <a:t>  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Angsana New"/>
                          <a:cs typeface="Cordia New"/>
                        </a:rPr>
                        <a:t>ฉัตรดอ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มหาวิทยาลัยมหาสารคา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อาจารย์ชัยวัฒน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Cordia New"/>
                        </a:rPr>
                        <a:t>  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Angsana New"/>
                          <a:cs typeface="Cordia New"/>
                        </a:rPr>
                        <a:t>สุภัควรกุ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มหาวิทยาลัยมหาสารคา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อาจารย์ประยงค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Cordia New"/>
                        </a:rPr>
                        <a:t>  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Angsana New"/>
                          <a:cs typeface="Cordia New"/>
                        </a:rPr>
                        <a:t>หัตถพรห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มหาวิทยาลัยมหาสารคา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อาจารย์ธนัณชัย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Cordia New"/>
                        </a:rPr>
                        <a:t>  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Angsana New"/>
                          <a:cs typeface="Cordia New"/>
                        </a:rPr>
                        <a:t>สิงห์มาตย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มหาวิทยาลัยมหาสารคา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ผศ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ea typeface="Angsana New"/>
                        </a:rPr>
                        <a:t>.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บุญชน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Cordia New"/>
                        </a:rPr>
                        <a:t>  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Angsana New"/>
                          <a:cs typeface="Cordia New"/>
                        </a:rPr>
                        <a:t>ยีสารพัฒน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มหาวิทยาลัยมหาสารคา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15328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6600cc"/>
                </a:solidFill>
                <a:latin typeface="Calibri"/>
                <a:cs typeface="Angsana New"/>
              </a:rPr>
              <a:t>การพัฒนาหลักสูตรและการจัดกระบวนการเรียนการสอน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28600" y="160020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3333cc"/>
                </a:solidFill>
                <a:latin typeface="Calibri"/>
                <a:cs typeface="Cordia New"/>
              </a:rPr>
              <a:t>เกณฑ์ </a:t>
            </a:r>
            <a:r>
              <a:rPr b="0" lang="en-US" sz="3200" spc="-1" strike="noStrike">
                <a:solidFill>
                  <a:srgbClr val="3333cc"/>
                </a:solidFill>
                <a:latin typeface="Calibri"/>
              </a:rPr>
              <a:t>TQ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3333cc"/>
                </a:solidFill>
                <a:latin typeface="Calibri"/>
                <a:cs typeface="Cordia New"/>
              </a:rPr>
              <a:t>การปรับปรุงหลักสูตรตามกรอบ สกอ</a:t>
            </a:r>
            <a:r>
              <a:rPr b="0" lang="th-TH" sz="3200" spc="-1" strike="noStrike">
                <a:solidFill>
                  <a:srgbClr val="3333cc"/>
                </a:solidFill>
                <a:latin typeface="Calibri"/>
                <a:ea typeface="Cordia Ne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3333cc"/>
                </a:solidFill>
                <a:latin typeface="Calibri"/>
                <a:cs typeface="Cordia New"/>
              </a:rPr>
              <a:t>การจัดการหลักสูตรจากสภาวิชาชีพต่างๆ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3333cc"/>
                </a:solidFill>
                <a:latin typeface="Calibri"/>
                <a:cs typeface="Cordia New"/>
              </a:rPr>
              <a:t>การบูรณาการรายวิชา และกระบวนการจัดการเรียนการสอนแบบบูรณาการ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3333cc"/>
                </a:solidFill>
                <a:latin typeface="Calibri"/>
                <a:cs typeface="Cordia New"/>
              </a:rPr>
              <a:t>การกำหนดอัตลักษณ์ของสาขาวิชาและหลักสูตร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3333cc"/>
                </a:solidFill>
                <a:latin typeface="Calibri"/>
                <a:cs typeface="Cordia New"/>
              </a:rPr>
              <a:t>บริบทสังคม เศรษฐกิจ เทคโนโลยี และความมั่นคงทางการเมืองที่เปลี่ยนแปลงตลอดเวลาทั้งในประเทศและภายนอกประเท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09:23:14Z</dcterms:created>
  <dc:creator>user</dc:creator>
  <dc:description/>
  <dc:language>en-US</dc:language>
  <cp:lastModifiedBy>user</cp:lastModifiedBy>
  <dcterms:modified xsi:type="dcterms:W3CDTF">2010-07-21T08:20:45Z</dcterms:modified>
  <cp:revision>11</cp:revision>
  <dc:subject/>
  <dc:title>Slide 1</dc:title>
</cp:coreProperties>
</file>